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BD0-CA65-4751-8254-3EA07E1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BDE-97B6-42DE-A842-FE8DD29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14060E-9A9A-4E2D-8911-3563D42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B18FF-86CF-4990-98AB-C9B77BFC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08F13-9C9D-4A6D-B4C6-32EE775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3BF81-F302-43EA-B18B-722A202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511B2-689D-433D-A7DD-7F78BDB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B5AB3-2158-4DC9-B6EB-F92FDB6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2AF64-F97D-4A48-AFD9-1252FD4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D23D3-9E7A-4334-A453-0B0AA9BC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B4F70-1B06-4621-9CBA-26418528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3BE-9F16-44CB-A343-83C7E44C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CC0-AFC0-42D2-9B7C-A26CA9B4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331C-E632-4BAA-90F7-79F0DD5C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89E4E-18BF-4CFF-A98C-20A8D25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25B8-566F-4146-A6EB-FE2FCCAB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A82C-9C97-44E9-9EFF-EB41E8C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154A9-C117-4FA8-9E9B-69CF843A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059E-4636-4C37-92D6-708EF96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B6CB2-D82D-47E0-A7FB-E6C4B2F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8DB-EDDD-4B35-A480-21C49F6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F38B-5197-4084-BDB4-080F99B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129C3-3934-44D1-9381-45C5AAC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153FE-556E-4F52-AB1C-6AE7BE3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C47A-05F7-42C0-B27C-51CB9FD7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FEF2A-F696-4D32-AC85-7DB5BCA3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E2F19-CA56-4E62-A97A-9F951D0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B9CF-CAFF-4FC6-B983-72D7AFC0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8690-1703-4D29-9B29-24F299C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5E06-D55A-4667-AB09-A9A87A6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996D-063D-4EEE-837A-EF11D5B7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702-D222-404D-BDD1-D00066C8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BA2E-9706-4501-BBC4-9CA93B31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9A0A-27DE-4259-8791-6CB6796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9BF0-28D2-45C8-8499-A6C7F8A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2AAB-B0C0-41E6-A1B8-48D55780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0908-2ECB-44A5-B2E8-1599E0E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DDF5-E6B2-4405-B36D-CD6FA9BE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CCF5-E698-4D0C-B92A-6F729AF7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B1B18-76D4-48D4-8F3F-A428B428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61562-2022-47B7-9782-B8ED541E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48DA2-3A84-4FBA-9F4A-A031C67C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4B3-AD24-47A0-8677-7DD7D454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DC8EF1-A78B-4789-B9F2-351B9187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07C68-92C2-4E94-8389-A94BC2F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A224F-3F16-4C82-A8DA-A4F2859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FEA300-36F3-42FE-A591-B2C4B835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DAC1F-016A-4A5A-ADD1-9A23613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8760D-556D-4AFF-9B73-71E386C8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EDAD4-B793-484F-95F2-22A7CB1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3F76D-6612-47D8-8401-59FC0FDA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6EB89-6AB2-4427-A343-93BC3C28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6260-9D28-452B-8C9B-FEA06538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C48-9BDD-439F-9188-8E3C40A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8E80-07D2-41BE-BEFB-F0E76FB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2D19A-7670-438C-A2B4-A6DFEF90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EC1D-DBFD-4658-AA05-9F00429F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5FE4-8010-4F3B-8A87-62DF85C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78CE-4A3E-4308-8944-D79A1A0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A3BB-F538-40FD-98A8-D0AE016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1CF2-0B00-48BB-BD4A-C614139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E06E0-25E3-46B3-A2CC-55FFCF6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59E2-F410-4968-A443-D732203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87ED1-7457-4CDB-8672-C4DAF590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AD9-AC45-4A9A-975E-3F40D8DE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A2C1-6E34-4D71-AE0B-4BAFE01D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33AC-99F5-443B-8E97-12B3B8C5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5A5C-E191-4789-80D2-3DF6911B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41B9-BE3D-4D9D-8777-EE5233C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56C5-2E44-4333-8C48-E8256D9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9A1C-C68A-48EF-BB8B-8C31526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5B4D-A916-4D94-BE91-B09311F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6FFB-ECEF-4B16-AE94-00021A8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83D9-7268-4989-80E2-D1A3466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0DDE-27B8-490E-8028-FDFF5459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38F-AF3C-4CDF-9EAE-FC61EF8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A5A7-0767-4861-B188-CE76CB2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F3069-B19E-476F-8F41-530096E0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E400-B6D3-47F9-BF05-FBEA6D9C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09A1-55FF-4D98-AB08-8EB845BF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01BC-1375-4614-BC79-ED103D4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92384-1F4C-4A9B-B69E-A4966C2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D605-2C1D-4D23-8D6B-28CB98C0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46DE3-8916-4945-AB05-25CF1F3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82E9-ADB0-48AF-8485-69D2A9A0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69BF9-584D-4940-9F9B-0BF957E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4CE-CEA6-483A-8B26-A14C33D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FC71-6197-44F3-B90B-22DE863E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90E7-08B6-4C17-A203-567D887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A68E-9154-4439-95E8-9A2A17D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B7D4-461A-4BAD-A1D5-649CE1E5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BCB8B-E4CA-4DE1-846E-1AE61751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18CCF-2FEF-44D3-B11D-2C1FACC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C2B69-B933-4557-8E4D-40531532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BADCC-862C-48B0-8079-4F2BB06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6B67D-5532-4F62-8DDE-2CBF2E6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BFC87-CDA7-475B-A565-39C990BA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95A-E6E0-4D80-B127-F6FA7FA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7945A-6BF1-4A21-ADFF-9576EBB1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4D35C-C35C-4859-8A3E-E705DCBF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C09F4-DFB6-443C-B6C5-B6681D98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E58FE-A63A-433C-BE94-8D11C43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530E9-7C47-43FA-AF6A-F093273E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6928F6-0FDE-4147-A7B0-B756BDCF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41CA07-B7E1-4EC4-83C6-BDCE4B10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A8B73-FDD8-4EAD-8C28-58CA0851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EBDA4-D209-4E88-BABC-C99272A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0E8CC-F99A-43B3-9D51-5494AC25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EA5F-AD6C-4589-8E1A-CFD44B36DE75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076-2E8D-495F-A39A-F0BE9C94726B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C5D7-C8E3-4388-BA80-E2A8530AEA83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1F7-16DD-4EB8-A3CE-E44D232A5441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B7B-C4E0-4507-BD6C-8F5F31E83900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FC22-7C52-4B2C-B4C0-1F822F98BC39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9A69-75BD-49E0-AA28-4E932B702574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A0D3-3BD6-4589-A920-69C0AE2DE7EB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422-71F5-47A2-A0CA-254B634EC2B3}" type="slidenum">
              <a:rPr b="0" lang="en-US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Nicolas_R&#233;gnier_-_Allegory_of_Vanity_(Pandora)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 rot="510000">
            <a:off x="323640" y="1863720"/>
            <a:ext cx="81295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РАЗЕОЛОГИЗ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1979640" y="2133720"/>
            <a:ext cx="511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mbria"/>
              </a:rPr>
              <a:t>источник множественных несчастий, бедствий.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Прямоугольник 2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74134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4"/>
          <p:cNvSpPr/>
          <p:nvPr/>
        </p:nvSpPr>
        <p:spPr>
          <a:xfrm>
            <a:off x="1042920" y="3789360"/>
            <a:ext cx="71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 древнегреческих мифах  Пандора первая женщина. Изготовлена Гефестом по приказу Зевса, смешавшим землю и воду, при участии других богов. Афина дала ей душу, а каждый из прочих по подарку . Сатиры принесли ее к Эпиметею в чане, и тот, вопреки приказу Зевса, приказал разбить его молотами 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Рисунок 3" descr="http://upload.wikimedia.org/wikipedia/commons/thumb/9/9e/Nicolas_R%C3%A9gnier_-_Allegory_of_Vanity_%28Pandora%29.JPG/180px-Nicolas_R%C3%A9gnier_-_Allegory_of_Vanity_%28Pandora%2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71880" y="357120"/>
            <a:ext cx="27860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"/>
          <p:cNvSpPr/>
          <p:nvPr/>
        </p:nvSpPr>
        <p:spPr>
          <a:xfrm>
            <a:off x="1214280" y="708840"/>
            <a:ext cx="678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Древнегреческий миф о Пандоре рассказывает о том, как люди некогда жили, не зная никаких несчастий, болезни и старости, пока Прометей не похитил у богов огонь. За это разгневанный Зевс послал на землю красивую женщину - Пандору; она получила от бога ларец, в котором были заперты все человеческие несчастья. Несмотря на предупреждение Прометея не открывать ларец, Пандора, подстрекаемая любопытством, открыла его и рассыпала все несчасть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1187280" y="549360"/>
            <a:ext cx="564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Пандора стала женой Эпиметея, младшего брата Прометея . . От мужа она узнала, что в доме есть ларец (либо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</a:rPr>
              <a:t>пифос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), который ни в коем случае нельзя открывать. Если нарушить запрет, весь мир и его обитателей ждут неисчислимые беды. Поддавшись любопытству, она открыла ларец и беды обрушились на мир. Когда Пандора открыла ларец, то на дне его, по вол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</a:rPr>
              <a:t>Зевса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, осталась только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</a:rPr>
              <a:t>Надежда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Это имя носила так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mbria"/>
              </a:rPr>
              <a:t>дочь афинского царя </a:t>
            </a: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Эрехте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 rot="475200">
            <a:off x="826920" y="1413000"/>
            <a:ext cx="7561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Евгеньевна</cp:lastModifiedBy>
  <dcterms:modified xsi:type="dcterms:W3CDTF">2009-10-23T06:08:17Z</dcterms:modified>
  <cp:revision>7</cp:revision>
  <dc:subject/>
  <dc:title>Слайд 1</dc:title>
</cp:coreProperties>
</file>